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9C501-CA57-4D0E-9AA8-D59540CA0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12035-6607-4115-A92E-722143AA0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0AA86-C706-4549-BFD9-978C8A5A5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AB2E4-1B39-4990-B70B-8119B365C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B3F52-5CF6-405C-AB4E-9EEC1D3D0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696D8-3966-48E1-847C-20FB174E4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47A8C-F490-4F07-9636-DA5710686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6DE93-7371-418C-AB88-A527EA2F9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27AA2-7D9E-4499-A244-439ADB9F4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896E7-9105-4072-93A0-D6A02385F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AF0D8-2199-44B9-B39F-9002535C6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98213-3B0F-4015-ADC7-B864070C8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40D19-55EF-4D8E-BC02-3E6991DCC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0BED7-E0EF-4753-99AD-E7BB61D4C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6C396-9725-4AC0-BD19-002D3E100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3F623-2E96-437A-A514-A0D65BB91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74883-2B38-4FFA-B51C-2039EC813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AF14F-F6A6-45C8-BF41-CF8EFD1E8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3612B-0F2F-4AD7-8D11-1879C281A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23ABF-C914-46A8-A6B9-5919D57B1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E3F7C-F79A-4FDA-8541-0F0243161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BBF1C-A3FB-4E06-82A2-BFA9CB3FE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F5673-808F-484C-A888-149B6E77D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3A969-5C55-464B-A527-2193AAC9A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1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3115B-5CB2-45A7-900F-C3703AD1879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552B1-34C7-4F36-B13D-406668055AE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7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장 행동관리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371600" y="3645000"/>
            <a:ext cx="64008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고전행동주의와 신행동주의 차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-R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과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-R-S (ABC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수정의 관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거 또는 증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성취동기 향상 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보상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칭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흥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동기부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효능감과 귀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교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행동수정 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바람직한 행동의 증가 전략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적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적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토큰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할머니 법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remark Principle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계약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바람직하지 못한 행동의 감소 전략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소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연대책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학급관리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실의 물리적 배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의 조 편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좌석배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실생활 규칙 제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질문</a:t>
            </a: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?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979640" y="1844640"/>
            <a:ext cx="475308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0T03:46:38Z</dcterms:created>
  <dc:creator>.</dc:creator>
  <dc:description/>
  <dc:language>en-US</dc:language>
  <cp:lastModifiedBy>f</cp:lastModifiedBy>
  <dcterms:modified xsi:type="dcterms:W3CDTF">2007-05-02T01:29:10Z</dcterms:modified>
  <cp:revision>9</cp:revision>
  <dc:subject/>
  <dc:title>제 7장 체육교육과정</dc:title>
</cp:coreProperties>
</file>